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D317-72D3-4A0D-85EA-407096567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C616-D549-4183-85AE-E481FD817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94E1-F461-4B01-B16B-B3E480842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510C-5222-47A6-9913-B98280711C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87D2-BB19-479B-8470-6D3D4CD6F2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D955-C309-4594-AFAC-C6877B82B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BE11-150E-4629-9B97-2F75A064F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5812-0C78-4524-9C2B-21ED89FA7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CE45-3D39-44D1-8465-2AA8FCBC3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7F57-E4F9-45F4-A9AD-3B950E899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ACC3-9041-41CD-8B96-2AA597A2B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CE2D4-1545-4344-BBC6-EA26EAEC7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7C5B-53A8-4C2B-9C18-60450D8593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video" Target="/Users/tylerdaughtry/Documents/Middle Ages Final/CRUSADES .ppt_media/cheer-2.mov" TargetMode="External"/><Relationship Id="rId4" Type="http://schemas.microsoft.com/office/2007/relationships/media" Target="/Users/tylerdaughtry/Documents/Middle Ages Final/CRUSADES .ppt_media/cheer-2.mov" TargetMode="External"/><Relationship Id="rId5" Type="http://schemas.openxmlformats.org/officeDocument/2006/relationships/image" Target="../media/image3.png"/><Relationship Id="rId6" Type="http://schemas.openxmlformats.org/officeDocument/2006/relationships/video" Target="/Users/tylerdaughtry/Documents/Middle Ages Final/CRUSADES .ppt_media/combined-2.mov" TargetMode="External"/><Relationship Id="rId7" Type="http://schemas.microsoft.com/office/2007/relationships/media" Target="/Users/tylerdaughtry/Documents/Middle Ages Final/CRUSADES .ppt_media/combined-2.mov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video" Target="/Users/tylerdaughtry/Documents/Middle Ages Final/CRUSADES .ppt_media/lion-2.mov" TargetMode="External"/><Relationship Id="rId4" Type="http://schemas.microsoft.com/office/2007/relationships/media" Target="/Users/tylerdaughtry/Documents/Middle Ages Final/CRUSADES .ppt_media/lion-2.mo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The First Crusade (1096-109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Peasant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Un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Lacked military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Many killed by Muslim Tu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Kn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Succeeded in capturing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730680" cy="4114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229600" y="60958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vide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61048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Second Crusade (1147-11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After victory many Christians went back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he Turks eventually took back much of the terri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King of France and Emperor of Germany sent troops to stop the Tu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10800000">
            <a:off x="5765400" y="5003280"/>
            <a:ext cx="2590920" cy="1971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762120" y="5867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econd Crusade (1147-114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01360"/>
            <a:ext cx="3962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Saladin leads the Muslim Turks to victory, defeating the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Wise R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Kind treatment of fallen enem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Model of </a:t>
            </a:r>
            <a:r>
              <a:rPr b="0" lang="en-US" sz="2000" spc="-1" strike="noStrike" u="sng">
                <a:solidFill>
                  <a:srgbClr val="ff2712"/>
                </a:solidFill>
                <a:uFillTx/>
                <a:latin typeface="Lucida Grande"/>
                <a:ea typeface="Lucida Grande"/>
              </a:rPr>
              <a:t>chival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76920" y="1371600"/>
            <a:ext cx="3860640" cy="4876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2120" y="5943600"/>
            <a:ext cx="244440" cy="2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Third Crusade (1189-119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120" y="624852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1638360" y="1155600"/>
            <a:ext cx="10744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3" marL="1589040" indent="-457200">
              <a:lnSpc>
                <a:spcPct val="100000"/>
              </a:lnSpc>
              <a:spcBef>
                <a:spcPts val="799"/>
              </a:spcBef>
              <a:buClr>
                <a:srgbClr val="d90b00"/>
              </a:buClr>
              <a:buFont typeface="Lucida Grande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English King Richard the Lion-Heart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457200">
              <a:lnSpc>
                <a:spcPct val="100000"/>
              </a:lnSpc>
              <a:spcBef>
                <a:spcPts val="799"/>
              </a:spcBef>
              <a:buClr>
                <a:srgbClr val="d90b00"/>
              </a:buClr>
              <a:buFont typeface="Lucida Gran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Fought many battles against </a:t>
            </a:r>
            <a:r>
              <a:rPr b="1" lang="en-US" sz="34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Saladin</a:t>
            </a: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457200">
              <a:lnSpc>
                <a:spcPct val="100000"/>
              </a:lnSpc>
              <a:spcBef>
                <a:spcPts val="799"/>
              </a:spcBef>
              <a:buClr>
                <a:srgbClr val="d90b00"/>
              </a:buClr>
              <a:buFont typeface="Lucida Grande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Agreed to a </a:t>
            </a:r>
            <a:r>
              <a:rPr b="1" lang="en-US" sz="34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truce</a:t>
            </a: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with Saladin in 119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457200">
              <a:lnSpc>
                <a:spcPct val="100000"/>
              </a:lnSpc>
              <a:spcBef>
                <a:spcPts val="799"/>
              </a:spcBef>
              <a:buClr>
                <a:srgbClr val="d90b00"/>
              </a:buClr>
              <a:buFont typeface="Lucida Grande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Jerusalem stayed under Muslim </a:t>
            </a:r>
            <a:r>
              <a:rPr b="1" lang="en-US" sz="34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781280" indent="-457200">
              <a:lnSpc>
                <a:spcPct val="100000"/>
              </a:lnSpc>
              <a:spcBef>
                <a:spcPts val="799"/>
              </a:spcBef>
              <a:buClr>
                <a:srgbClr val="d90b00"/>
              </a:buClr>
              <a:buFont typeface="Lucida Grande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Saladin promised unarmed Christians could </a:t>
            </a:r>
            <a:r>
              <a:rPr b="1" lang="en-US" sz="30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freely visit</a:t>
            </a:r>
            <a:r>
              <a:rPr b="0" lang="en-US" sz="30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the city’s </a:t>
            </a:r>
            <a:r>
              <a:rPr b="1" lang="en-US" sz="30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holy</a:t>
            </a:r>
            <a:r>
              <a:rPr b="0" lang="en-US" sz="30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pl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Results of 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I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.</a:t>
            </a:r>
            <a:r>
              <a:rPr b="1" lang="en-US" sz="32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F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. </a:t>
            </a:r>
            <a:r>
              <a:rPr b="1" lang="en-US" sz="32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T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urks </a:t>
            </a:r>
            <a:r>
              <a:rPr b="1" lang="en-US" sz="32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T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raveled</a:t>
            </a: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they would </a:t>
            </a:r>
            <a:r>
              <a:rPr b="1" lang="en-US" sz="32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T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I </a:t>
            </a: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= 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Improvements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–</a:t>
            </a: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Ships, Maps, Explo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F =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Feudalism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declines because Feudal lords die or 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spend too much money on milit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 = Turks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still rule the Holy 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 =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ravel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– Europeans want to travel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 =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rade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– Europeans want product from the East 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ヒラギノ角ゴ ProN W3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such as sugar, cotton, silk, spices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aff</dc:creator>
  <dc:description/>
  <dc:language>en-US</dc:language>
  <cp:lastModifiedBy/>
  <cp:revision>0</cp:revision>
  <dc:subject/>
  <dc:title>THE CRUSADES</dc:title>
</cp:coreProperties>
</file>